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424-2CD8-442C-9DAF-2BD13295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ECE-33A6-4AFC-8A5E-5679259E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5BCDC-B3DD-401D-853B-5C8B5916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5B873-2072-4AE4-AD87-11453414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F20C3-2434-49B9-A9B8-E6BCE68F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34D7D-A6BA-4748-9C88-00059735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201A4-A262-4F8A-834D-78938EDB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C8972-4FF5-4610-8DA0-8E8C4520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1BE1E-2E7C-4492-B2B0-77E0F2F2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91730-8515-47FB-80D5-9883873B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0D1BA-0609-4144-AA95-24CFCD47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565-50B1-45CB-8F5F-0AAC5B17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C91-D03F-4DEC-B828-1EF6C4CA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BFD6-111C-4060-A664-659D5129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F49E-1C90-416E-B246-BB06C139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7344-CA84-4528-8A70-65D26D1D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4A05-5A1D-4B70-95DC-7F01FB6E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13E5-5E2B-4305-8C23-804DE726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1C6F-2194-4605-91B6-0168E557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1F22-9C0A-4EFE-B711-9825BBE2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203-8BB7-4C32-9F0B-95D87293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42FD-2B66-4F35-B9C1-29B0A454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CF87-ABC7-46D4-99E2-48584C84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D835-9A9F-43C6-B808-DCC03FA6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8BDF-034E-45BC-A982-CD6E23D5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ACCD-E201-41F7-820A-C597FDCA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1DF2-5803-4BA2-BB84-CC5C6085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2BEE7-4539-431C-BA12-9EAD09AB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421C9-8FDF-40E4-8FF4-E897106C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975C-BBEE-4673-B4C8-F947B542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2FF6-2BB8-47CF-B43D-CE6B4EC6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A2E-C073-4CC3-B60F-7C6ABE06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BAF34-CC7B-41BF-BF65-975A5FE1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5EF1-F744-43F6-8947-CCCD8DE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5AC29-C093-4866-8E00-8A44F4BE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CB42-6F88-4597-8A4A-85FFEEE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6423-0BB2-4D35-AB91-0F2E3FF5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6CDA2-18B0-4856-9340-239A10CE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D4BD1-38DB-44F5-8CE6-B8C7D60D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9B6F4-30CB-46B6-BF95-32335351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30B0-0F6E-4F61-9D26-1D81DB84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1F60D-AC10-4ADA-922A-42FADD95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A63-D619-4074-B44D-378A971C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A25D9-1A46-40F8-98BE-A37679AC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ECECC-08CB-4867-B487-AF70BE67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67E5E-A580-473A-BAAD-E0639788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0E1C-1A79-4C65-A4D4-08B4863F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AC43-06BB-419F-9105-9D47B132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1FBDB-2122-404F-A948-99591AB6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2CD1-D936-4E2E-B06A-D4C0F3FB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B2A74-A3AD-419A-843E-C488DC32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B9012-D178-49D5-BEDB-30CE20C0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66E6B-9864-4C4D-885E-074D5A7C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55D-8F20-4B86-A2F8-394441B1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AADDD-87D8-4907-A3DF-24EB30A2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970A7-60F5-4C92-AB10-2F4016A7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77730-23F9-4138-93E8-CB024EB3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CDB7-C15F-4F70-B23E-7569962C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6CC32-35EE-4DB9-ACC5-D7E226E5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8A564-F39D-43C2-A249-158FB70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E7DBB-B8C2-4E0E-8E77-C7817A15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3FA3F-C98A-445B-84C8-15F1015F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1FE0F-42DE-4180-9490-6179C5EF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24E07-B48A-4D98-ABC3-769D530A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037-CF6A-4B3A-97E7-50BE2E23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8A45D-E9E6-40B3-B421-21B7E0BC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EB4BA-8569-4738-9027-E35692AD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053DA-2CEB-4A00-8E7F-38D1B0CA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99327-66F4-4FF9-87AA-0BE77ACE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B2801-AFD4-43F1-9C9D-C433C1BC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F3404-696F-493B-B445-3E1B0FA3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FCBE6-C43E-46DC-B217-F7C9A7F4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863D8-4AF2-485F-BD6B-5BFB127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1DD61-3775-481E-80FB-B9178D9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5E28-3532-4341-8789-24B5DBC7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29E-FF57-4B80-82AA-24B8ED22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66011-F93E-4155-AA31-2717AAE7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F1C5-C973-4236-BBB9-53F7DD6F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074F6-654F-4D56-92D0-CEEEBC2A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FECA5-99E3-4D73-AE46-9559C38D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1CCFE-C0F7-4F16-8CEF-01E4A4BD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E3595-B899-4EAC-9529-A8B6F784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85A93-8F8C-4DCB-BE0B-AE704856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B0E61-D8CC-4101-8103-0888FE3C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2F6A4-9A42-401F-B62B-437312EF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C0D35-D168-49F4-B0E4-ED5DA6D2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1B7-6D93-4469-A550-8133165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52EDA-20A1-4D50-B284-6CE38CFE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80DB7-682C-4968-AF29-365EAA64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FCAA-9C52-4842-9FA5-445ECF54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2E882-EBF3-4CB8-977C-7C594434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64155-7BF3-4228-87A6-0868077A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7B4FB-7D26-4660-BD20-EA5806E5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F186B-AF21-40D0-AEE4-C545A12E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52A28-9869-46B6-BA9A-543EB2CD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75DAB-8C12-47B9-847C-8F8702A7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3C2E5-1AF1-4A7B-A297-89DAD08C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323-3A21-4969-9089-D5895262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1F2EC-5555-4E40-84AE-720C82E4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40EB8-B918-4C93-8982-5B7D7AB7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F02C2-27CF-4995-9F00-FA6CBE9E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C8A93-369F-485A-82FA-FFD984AC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9272F-867C-4518-A89A-2BB208B5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B5115-E283-4BB9-97C9-F8F5E227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476E5-3E8C-43B9-A981-92B7B61C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6C168-D122-476E-90B8-F1511B49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32933-2B43-49FF-AFDD-3D3226E5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DDD2D-E699-4E8A-8CE8-973203AA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D619-CAC5-47A9-847B-AED03C3631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7"/>
          <p:cNvSpPr/>
          <p:nvPr/>
        </p:nvSpPr>
        <p:spPr>
          <a:xfrm rot="5400000">
            <a:off x="4494240" y="-838080"/>
            <a:ext cx="3200400" cy="12191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2191760"/>
              <a:gd name="textAreaBottom" fmla="*/ 12192120 h 1219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3"/>
          <p:cNvSpPr/>
          <p:nvPr/>
        </p:nvSpPr>
        <p:spPr>
          <a:xfrm>
            <a:off x="0" y="0"/>
            <a:ext cx="12192120" cy="4381560"/>
          </a:xfrm>
          <a:custGeom>
            <a:avLst/>
            <a:gdLst/>
            <a:ahLst/>
            <a:rect l="l" t="t" r="r" b="b"/>
            <a:pathLst>
              <a:path w="12192000" h="5044965">
                <a:moveTo>
                  <a:pt x="0" y="0"/>
                </a:moveTo>
                <a:lnTo>
                  <a:pt x="12192000" y="0"/>
                </a:lnTo>
                <a:lnTo>
                  <a:pt x="12192000" y="4210775"/>
                </a:lnTo>
                <a:lnTo>
                  <a:pt x="6132786" y="5044965"/>
                </a:lnTo>
                <a:lnTo>
                  <a:pt x="0" y="421077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5"/>
          <p:cNvSpPr/>
          <p:nvPr/>
        </p:nvSpPr>
        <p:spPr>
          <a:xfrm>
            <a:off x="6095880" y="0"/>
            <a:ext cx="6096240" cy="4572000"/>
          </a:xfrm>
          <a:custGeom>
            <a:avLst/>
            <a:gdLst/>
            <a:ahLst/>
            <a:rect l="l" t="t" r="r" b="b"/>
            <a:pathLst>
              <a:path w="6096000" h="4572001">
                <a:moveTo>
                  <a:pt x="0" y="0"/>
                </a:moveTo>
                <a:lnTo>
                  <a:pt x="6096000" y="0"/>
                </a:lnTo>
                <a:lnTo>
                  <a:pt x="6096000" y="3846788"/>
                </a:lnTo>
                <a:lnTo>
                  <a:pt x="0" y="457200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组合 10" descr=""/>
          <p:cNvPicPr/>
          <p:nvPr/>
        </p:nvPicPr>
        <p:blipFill>
          <a:blip r:embed="rId4"/>
          <a:stretch/>
        </p:blipFill>
        <p:spPr>
          <a:xfrm>
            <a:off x="1847880" y="4797360"/>
            <a:ext cx="663480" cy="658800"/>
          </a:xfrm>
          <a:prstGeom prst="rect">
            <a:avLst/>
          </a:prstGeom>
          <a:ln w="0">
            <a:noFill/>
          </a:ln>
        </p:spPr>
      </p:pic>
      <p:pic>
        <p:nvPicPr>
          <p:cNvPr id="47" name="组合 17" descr=""/>
          <p:cNvPicPr/>
          <p:nvPr/>
        </p:nvPicPr>
        <p:blipFill>
          <a:blip r:embed="rId5"/>
          <a:stretch/>
        </p:blipFill>
        <p:spPr>
          <a:xfrm>
            <a:off x="8180280" y="4780080"/>
            <a:ext cx="658800" cy="657000"/>
          </a:xfrm>
          <a:prstGeom prst="rect">
            <a:avLst/>
          </a:prstGeom>
          <a:ln w="0">
            <a:noFill/>
          </a:ln>
        </p:spPr>
      </p:pic>
      <p:pic>
        <p:nvPicPr>
          <p:cNvPr id="48" name="组合 22" descr=""/>
          <p:cNvPicPr/>
          <p:nvPr/>
        </p:nvPicPr>
        <p:blipFill>
          <a:blip r:embed="rId6"/>
          <a:stretch/>
        </p:blipFill>
        <p:spPr>
          <a:xfrm>
            <a:off x="4645080" y="4797360"/>
            <a:ext cx="658800" cy="665280"/>
          </a:xfrm>
          <a:prstGeom prst="rect">
            <a:avLst/>
          </a:prstGeom>
          <a:ln w="0">
            <a:noFill/>
          </a:ln>
        </p:spPr>
      </p:pic>
      <p:sp>
        <p:nvSpPr>
          <p:cNvPr id="49" name="燕尾形 30"/>
          <p:cNvSpPr/>
          <p:nvPr/>
        </p:nvSpPr>
        <p:spPr>
          <a:xfrm rot="5400000">
            <a:off x="5638320" y="-1981080"/>
            <a:ext cx="914400" cy="121921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2120"/>
              <a:gd name="textAreaBottom" fmla="*/ 12192480 h 121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69" y="0"/>
                </a:lnTo>
                <a:lnTo>
                  <a:pt x="21600" y="10800"/>
                </a:lnTo>
                <a:lnTo>
                  <a:pt x="4969" y="21600"/>
                </a:lnTo>
                <a:lnTo>
                  <a:pt x="0" y="21600"/>
                </a:lnTo>
                <a:lnTo>
                  <a:pt x="16631" y="1080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8ECB-6127-45AD-AC78-ECFC8FF4AC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0CAC-D409-49D7-93EA-332F933F5E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"/>
          <p:cNvGrpSpPr/>
          <p:nvPr/>
        </p:nvGrpSpPr>
        <p:grpSpPr>
          <a:xfrm>
            <a:off x="263520" y="2465280"/>
            <a:ext cx="914400" cy="1927440"/>
            <a:chOff x="263520" y="2465280"/>
            <a:chExt cx="914400" cy="1927440"/>
          </a:xfrm>
        </p:grpSpPr>
        <p:sp>
          <p:nvSpPr>
            <p:cNvPr id="139" name="矩形 8"/>
            <p:cNvSpPr/>
            <p:nvPr/>
          </p:nvSpPr>
          <p:spPr>
            <a:xfrm>
              <a:off x="263520" y="2465280"/>
              <a:ext cx="1252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9"/>
            <p:cNvSpPr/>
            <p:nvPr/>
          </p:nvSpPr>
          <p:spPr>
            <a:xfrm>
              <a:off x="444240" y="2465280"/>
              <a:ext cx="7336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13"/>
            <p:cNvGrpSpPr/>
            <p:nvPr/>
          </p:nvGrpSpPr>
          <p:grpSpPr>
            <a:xfrm>
              <a:off x="557640" y="2664000"/>
              <a:ext cx="482760" cy="654840"/>
              <a:chOff x="557640" y="2664000"/>
              <a:chExt cx="482760" cy="654840"/>
            </a:xfrm>
          </p:grpSpPr>
          <p:sp>
            <p:nvSpPr>
              <p:cNvPr id="142" name="KSO_Shape"/>
              <p:cNvSpPr/>
              <p:nvPr/>
            </p:nvSpPr>
            <p:spPr>
              <a:xfrm>
                <a:off x="633600" y="2664000"/>
                <a:ext cx="374760" cy="572400"/>
              </a:xfrm>
              <a:custGeom>
                <a:avLst/>
                <a:gdLst/>
                <a:ahLst/>
                <a:rect l="l" t="t" r="r" b="b"/>
                <a:pathLst>
                  <a:path w="791665" h="1206638">
                    <a:moveTo>
                      <a:pt x="395833" y="194422"/>
                    </a:moveTo>
                    <a:cubicBezTo>
                      <a:pt x="284597" y="194422"/>
                      <a:pt x="194422" y="284596"/>
                      <a:pt x="194422" y="395833"/>
                    </a:cubicBezTo>
                    <a:cubicBezTo>
                      <a:pt x="194422" y="507069"/>
                      <a:pt x="284597" y="597244"/>
                      <a:pt x="395833" y="597244"/>
                    </a:cubicBezTo>
                    <a:cubicBezTo>
                      <a:pt x="507070" y="597244"/>
                      <a:pt x="597244" y="507069"/>
                      <a:pt x="597244" y="395833"/>
                    </a:cubicBezTo>
                    <a:cubicBezTo>
                      <a:pt x="597244" y="284596"/>
                      <a:pt x="507070" y="194422"/>
                      <a:pt x="395833" y="194422"/>
                    </a:cubicBezTo>
                    <a:close/>
                    <a:moveTo>
                      <a:pt x="395833" y="0"/>
                    </a:moveTo>
                    <a:cubicBezTo>
                      <a:pt x="497135" y="-1"/>
                      <a:pt x="598438" y="38646"/>
                      <a:pt x="675729" y="115937"/>
                    </a:cubicBezTo>
                    <a:cubicBezTo>
                      <a:pt x="830312" y="270519"/>
                      <a:pt x="830312" y="521146"/>
                      <a:pt x="675729" y="675729"/>
                    </a:cubicBezTo>
                    <a:lnTo>
                      <a:pt x="374888" y="1206638"/>
                    </a:lnTo>
                    <a:cubicBezTo>
                      <a:pt x="281589" y="1113339"/>
                      <a:pt x="209236" y="769028"/>
                      <a:pt x="115937" y="675729"/>
                    </a:cubicBezTo>
                    <a:cubicBezTo>
                      <a:pt x="-38646" y="521146"/>
                      <a:pt x="-38646" y="270519"/>
                      <a:pt x="115937" y="115937"/>
                    </a:cubicBezTo>
                    <a:cubicBezTo>
                      <a:pt x="193228" y="38646"/>
                      <a:pt x="294531" y="-1"/>
                      <a:pt x="39583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12"/>
              <p:cNvSpPr/>
              <p:nvPr/>
            </p:nvSpPr>
            <p:spPr>
              <a:xfrm>
                <a:off x="557640" y="3236400"/>
                <a:ext cx="48276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F16C-E9B4-4806-9905-6A09D54668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7445-AE1C-4954-AFEF-9238679BE3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1218564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燕尾形 8"/>
          <p:cNvSpPr/>
          <p:nvPr/>
        </p:nvSpPr>
        <p:spPr>
          <a:xfrm>
            <a:off x="1936800" y="0"/>
            <a:ext cx="9402840" cy="6858000"/>
          </a:xfrm>
          <a:custGeom>
            <a:avLst/>
            <a:gdLst>
              <a:gd name="textAreaLeft" fmla="*/ 0 w 9402840"/>
              <a:gd name="textAreaRight" fmla="*/ 9403200 w 940284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30" y="0"/>
                </a:lnTo>
                <a:lnTo>
                  <a:pt x="21600" y="10800"/>
                </a:lnTo>
                <a:lnTo>
                  <a:pt x="14130" y="21600"/>
                </a:lnTo>
                <a:lnTo>
                  <a:pt x="0" y="21600"/>
                </a:lnTo>
                <a:lnTo>
                  <a:pt x="7470" y="10800"/>
                </a:lnTo>
                <a:close/>
              </a:path>
            </a:pathLst>
          </a:custGeom>
          <a:solidFill>
            <a:srgbClr val="99cc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燕尾形 9"/>
          <p:cNvSpPr/>
          <p:nvPr/>
        </p:nvSpPr>
        <p:spPr>
          <a:xfrm>
            <a:off x="824400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燕尾形 10"/>
          <p:cNvSpPr/>
          <p:nvPr/>
        </p:nvSpPr>
        <p:spPr>
          <a:xfrm>
            <a:off x="115092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6316-D3F6-4110-A9B0-6092F5006B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83A3-7BC7-4026-A916-8C05A438F8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7711-E9FA-418B-9004-42CAFBD757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032C-75DE-40FF-9CB4-341F3A1C18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4"/>
          <p:cNvSpPr txBox="1"/>
          <p:nvPr/>
        </p:nvSpPr>
        <p:spPr>
          <a:xfrm>
            <a:off x="3359160" y="169380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快乐读书吧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61880" y="22536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590920" y="3328920"/>
            <a:ext cx="70117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李萍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jr06"/>
          <p:cNvPicPr/>
          <p:nvPr/>
        </p:nvPicPr>
        <p:blipFill>
          <a:blip r:embed="rId1"/>
          <a:stretch/>
        </p:blipFill>
        <p:spPr>
          <a:xfrm>
            <a:off x="152388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Documents and Settings\Administrator\桌面\09.jpg"/>
          <p:cNvPicPr/>
          <p:nvPr/>
        </p:nvPicPr>
        <p:blipFill>
          <a:blip r:embed="rId2"/>
          <a:stretch/>
        </p:blipFill>
        <p:spPr>
          <a:xfrm>
            <a:off x="1776240" y="4578480"/>
            <a:ext cx="8568000" cy="19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18"/>
          <p:cNvSpPr/>
          <p:nvPr/>
        </p:nvSpPr>
        <p:spPr>
          <a:xfrm>
            <a:off x="534960" y="219240"/>
            <a:ext cx="3745080" cy="2349360"/>
          </a:xfrm>
          <a:prstGeom prst="cloudCallout">
            <a:avLst>
              <a:gd name="adj1" fmla="val 86675"/>
              <a:gd name="adj2" fmla="val 53254"/>
            </a:avLst>
          </a:prstGeom>
          <a:solidFill>
            <a:srgbClr val="ccffcc">
              <a:alpha val="30000"/>
            </a:srgbClr>
          </a:solidFill>
          <a:ln cap="rnd" w="93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766960" y="3025800"/>
            <a:ext cx="7456680" cy="3340080"/>
          </a:xfrm>
          <a:prstGeom prst="rect">
            <a:avLst/>
          </a:prstGeom>
          <a:ln w="47520">
            <a:solidFill>
              <a:srgbClr val="00b050"/>
            </a:solidFill>
            <a:miter/>
          </a:ln>
        </p:spPr>
      </p:pic>
      <p:sp>
        <p:nvSpPr>
          <p:cNvPr id="419" name="TextBox 1"/>
          <p:cNvSpPr/>
          <p:nvPr/>
        </p:nvSpPr>
        <p:spPr>
          <a:xfrm>
            <a:off x="946080" y="10746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他们分别叫什么名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2895480" y="3025800"/>
            <a:ext cx="1884600" cy="146988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41"/>
          <p:cNvGrpSpPr/>
          <p:nvPr/>
        </p:nvGrpSpPr>
        <p:grpSpPr>
          <a:xfrm>
            <a:off x="8710560" y="3301920"/>
            <a:ext cx="1513080" cy="549360"/>
            <a:chOff x="8710560" y="3301920"/>
            <a:chExt cx="1513080" cy="549360"/>
          </a:xfrm>
        </p:grpSpPr>
        <p:sp>
          <p:nvSpPr>
            <p:cNvPr id="422" name="AutoShape 42"/>
            <p:cNvSpPr/>
            <p:nvPr/>
          </p:nvSpPr>
          <p:spPr>
            <a:xfrm>
              <a:off x="8710560" y="3301920"/>
              <a:ext cx="1513080" cy="5493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43"/>
            <p:cNvSpPr/>
            <p:nvPr/>
          </p:nvSpPr>
          <p:spPr>
            <a:xfrm>
              <a:off x="8750880" y="3316680"/>
              <a:ext cx="14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不高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8"/>
          <p:cNvGrpSpPr/>
          <p:nvPr/>
        </p:nvGrpSpPr>
        <p:grpSpPr>
          <a:xfrm>
            <a:off x="1171440" y="371520"/>
            <a:ext cx="5472000" cy="647640"/>
            <a:chOff x="1171440" y="371520"/>
            <a:chExt cx="5472000" cy="647640"/>
          </a:xfrm>
        </p:grpSpPr>
        <p:sp>
          <p:nvSpPr>
            <p:cNvPr id="425" name="AutoShape 6"/>
            <p:cNvSpPr/>
            <p:nvPr/>
          </p:nvSpPr>
          <p:spPr>
            <a:xfrm>
              <a:off x="1171440" y="371520"/>
              <a:ext cx="547200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"/>
            <p:cNvSpPr/>
            <p:nvPr/>
          </p:nvSpPr>
          <p:spPr>
            <a:xfrm>
              <a:off x="1315800" y="37152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听故事，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11"/>
          <p:cNvSpPr/>
          <p:nvPr/>
        </p:nvSpPr>
        <p:spPr>
          <a:xfrm>
            <a:off x="679320" y="1658880"/>
            <a:ext cx="358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没头脑” 赶紧找回了书包，可是又发生了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7335720" y="150984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不高兴”站在墙头耍杂技 ，老师赶紧喊他下来，他会怎么回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021440" y="1219320"/>
            <a:ext cx="4260960" cy="2090520"/>
          </a:xfrm>
          <a:prstGeom prst="wedgeRoundRectCallout">
            <a:avLst>
              <a:gd name="adj1" fmla="val -37759"/>
              <a:gd name="adj2" fmla="val 83773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>
            <a:off x="434880" y="1523880"/>
            <a:ext cx="4075200" cy="1643040"/>
          </a:xfrm>
          <a:prstGeom prst="wedgeRoundRectCallout">
            <a:avLst>
              <a:gd name="adj1" fmla="val 30162"/>
              <a:gd name="adj2" fmla="val 82486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2857680" y="4033800"/>
            <a:ext cx="5614920" cy="248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16"/>
          <p:cNvGrpSpPr/>
          <p:nvPr/>
        </p:nvGrpSpPr>
        <p:grpSpPr>
          <a:xfrm>
            <a:off x="396720" y="925560"/>
            <a:ext cx="4247640" cy="1252080"/>
            <a:chOff x="396720" y="925560"/>
            <a:chExt cx="4247640" cy="1252080"/>
          </a:xfrm>
        </p:grpSpPr>
        <p:sp>
          <p:nvSpPr>
            <p:cNvPr id="433" name="AutoShape 12"/>
            <p:cNvSpPr/>
            <p:nvPr/>
          </p:nvSpPr>
          <p:spPr>
            <a:xfrm>
              <a:off x="396720" y="925560"/>
              <a:ext cx="4247640" cy="125208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611640" y="1071720"/>
              <a:ext cx="40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为什么他们的名字叫“没头脑”和“不高兴”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Picture 1" descr="C:\Documents and Settings\Administrator\Application Data\Tencent\Users\2399319046\QQ\WinTemp\RichOle\F5H(@N0~VBG1V~LGIF]4W[K.png"/>
          <p:cNvPicPr/>
          <p:nvPr/>
        </p:nvPicPr>
        <p:blipFill>
          <a:blip r:embed="rId1"/>
          <a:stretch/>
        </p:blipFill>
        <p:spPr>
          <a:xfrm>
            <a:off x="5165640" y="1582560"/>
            <a:ext cx="6121440" cy="4686480"/>
          </a:xfrm>
          <a:prstGeom prst="rect">
            <a:avLst/>
          </a:prstGeom>
          <a:ln w="66600">
            <a:solidFill>
              <a:srgbClr val="41719c"/>
            </a:solidFill>
            <a:miter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8"/>
          <p:cNvGrpSpPr/>
          <p:nvPr/>
        </p:nvGrpSpPr>
        <p:grpSpPr>
          <a:xfrm>
            <a:off x="1235160" y="284040"/>
            <a:ext cx="5679720" cy="647640"/>
            <a:chOff x="1235160" y="284040"/>
            <a:chExt cx="5679720" cy="647640"/>
          </a:xfrm>
        </p:grpSpPr>
        <p:sp>
          <p:nvSpPr>
            <p:cNvPr id="437" name="AutoShape 6"/>
            <p:cNvSpPr/>
            <p:nvPr/>
          </p:nvSpPr>
          <p:spPr>
            <a:xfrm>
              <a:off x="1236960" y="284040"/>
              <a:ext cx="56779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7"/>
            <p:cNvSpPr/>
            <p:nvPr/>
          </p:nvSpPr>
          <p:spPr>
            <a:xfrm>
              <a:off x="1235160" y="284040"/>
              <a:ext cx="56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读名字，再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8"/>
          <p:cNvSpPr/>
          <p:nvPr/>
        </p:nvSpPr>
        <p:spPr>
          <a:xfrm>
            <a:off x="5362560" y="1441440"/>
            <a:ext cx="33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它叫什么名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"/>
          <p:cNvSpPr/>
          <p:nvPr/>
        </p:nvSpPr>
        <p:spPr>
          <a:xfrm>
            <a:off x="5256360" y="1162080"/>
            <a:ext cx="3644640" cy="1247760"/>
          </a:xfrm>
          <a:prstGeom prst="wedgeRoundRectCallout">
            <a:avLst>
              <a:gd name="adj1" fmla="val -46962"/>
              <a:gd name="adj2" fmla="val 124662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图片 6" descr=""/>
          <p:cNvPicPr/>
          <p:nvPr/>
        </p:nvPicPr>
        <p:blipFill>
          <a:blip r:embed="rId1"/>
          <a:stretch/>
        </p:blipFill>
        <p:spPr>
          <a:xfrm>
            <a:off x="1407960" y="1693800"/>
            <a:ext cx="3549960" cy="4248360"/>
          </a:xfrm>
          <a:prstGeom prst="rect">
            <a:avLst/>
          </a:prstGeom>
          <a:ln w="0">
            <a:noFill/>
          </a:ln>
        </p:spPr>
      </p:pic>
      <p:grpSp>
        <p:nvGrpSpPr>
          <p:cNvPr id="442" name="组合 8"/>
          <p:cNvGrpSpPr/>
          <p:nvPr/>
        </p:nvGrpSpPr>
        <p:grpSpPr>
          <a:xfrm>
            <a:off x="7594560" y="3263760"/>
            <a:ext cx="2664000" cy="1393920"/>
            <a:chOff x="7594560" y="3263760"/>
            <a:chExt cx="2664000" cy="1393920"/>
          </a:xfrm>
        </p:grpSpPr>
        <p:sp>
          <p:nvSpPr>
            <p:cNvPr id="443" name="AutoShape 529"/>
            <p:cNvSpPr/>
            <p:nvPr/>
          </p:nvSpPr>
          <p:spPr>
            <a:xfrm>
              <a:off x="7594560" y="3263760"/>
              <a:ext cx="2664000" cy="1393920"/>
            </a:xfrm>
            <a:prstGeom prst="roundRect">
              <a:avLst>
                <a:gd name="adj" fmla="val 117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图片 7" descr=""/>
            <p:cNvPicPr/>
            <p:nvPr/>
          </p:nvPicPr>
          <p:blipFill>
            <a:blip r:embed="rId2"/>
            <a:stretch/>
          </p:blipFill>
          <p:spPr>
            <a:xfrm>
              <a:off x="7778880" y="3577320"/>
              <a:ext cx="229536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图片 3" descr=""/>
          <p:cNvPicPr/>
          <p:nvPr/>
        </p:nvPicPr>
        <p:blipFill>
          <a:blip r:embed="rId1"/>
          <a:stretch/>
        </p:blipFill>
        <p:spPr>
          <a:xfrm>
            <a:off x="6885000" y="463680"/>
            <a:ext cx="3986280" cy="4195800"/>
          </a:xfrm>
          <a:prstGeom prst="rect">
            <a:avLst/>
          </a:prstGeom>
          <a:ln w="0">
            <a:noFill/>
          </a:ln>
        </p:spPr>
      </p:pic>
      <p:grpSp>
        <p:nvGrpSpPr>
          <p:cNvPr id="446" name="组合 4"/>
          <p:cNvGrpSpPr/>
          <p:nvPr/>
        </p:nvGrpSpPr>
        <p:grpSpPr>
          <a:xfrm>
            <a:off x="1058760" y="4870440"/>
            <a:ext cx="4376880" cy="992160"/>
            <a:chOff x="1058760" y="4870440"/>
            <a:chExt cx="4376880" cy="992160"/>
          </a:xfrm>
        </p:grpSpPr>
        <p:sp>
          <p:nvSpPr>
            <p:cNvPr id="447" name="AutoShape 42"/>
            <p:cNvSpPr/>
            <p:nvPr/>
          </p:nvSpPr>
          <p:spPr>
            <a:xfrm>
              <a:off x="1058760" y="4870440"/>
              <a:ext cx="3284280" cy="9921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3"/>
            <p:cNvSpPr/>
            <p:nvPr/>
          </p:nvSpPr>
          <p:spPr>
            <a:xfrm>
              <a:off x="1170720" y="5046120"/>
              <a:ext cx="426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长鼻子匹诺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图片 5" descr=""/>
          <p:cNvPicPr/>
          <p:nvPr/>
        </p:nvPicPr>
        <p:blipFill>
          <a:blip r:embed="rId2"/>
          <a:stretch/>
        </p:blipFill>
        <p:spPr>
          <a:xfrm>
            <a:off x="351000" y="-9360"/>
            <a:ext cx="5708520" cy="45748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42"/>
          <p:cNvSpPr/>
          <p:nvPr/>
        </p:nvSpPr>
        <p:spPr>
          <a:xfrm>
            <a:off x="7311960" y="4870440"/>
            <a:ext cx="3132360" cy="93024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6988320" y="50450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邋遢大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8"/>
          <p:cNvGrpSpPr/>
          <p:nvPr/>
        </p:nvGrpSpPr>
        <p:grpSpPr>
          <a:xfrm>
            <a:off x="1101600" y="252360"/>
            <a:ext cx="5860800" cy="650520"/>
            <a:chOff x="1101600" y="252360"/>
            <a:chExt cx="5860800" cy="650520"/>
          </a:xfrm>
        </p:grpSpPr>
        <p:sp>
          <p:nvSpPr>
            <p:cNvPr id="453" name="AutoShape 6"/>
            <p:cNvSpPr/>
            <p:nvPr/>
          </p:nvSpPr>
          <p:spPr>
            <a:xfrm>
              <a:off x="1101600" y="252360"/>
              <a:ext cx="56905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7"/>
            <p:cNvSpPr/>
            <p:nvPr/>
          </p:nvSpPr>
          <p:spPr>
            <a:xfrm>
              <a:off x="1422000" y="260280"/>
              <a:ext cx="554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比一比，学分享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6"/>
          <p:cNvGrpSpPr/>
          <p:nvPr/>
        </p:nvGrpSpPr>
        <p:grpSpPr>
          <a:xfrm>
            <a:off x="291960" y="1998720"/>
            <a:ext cx="4953960" cy="1890000"/>
            <a:chOff x="291960" y="1998720"/>
            <a:chExt cx="4953960" cy="1890000"/>
          </a:xfrm>
        </p:grpSpPr>
        <p:sp>
          <p:nvSpPr>
            <p:cNvPr id="456" name="AutoShape 12"/>
            <p:cNvSpPr/>
            <p:nvPr/>
          </p:nvSpPr>
          <p:spPr>
            <a:xfrm>
              <a:off x="622800" y="1998720"/>
              <a:ext cx="4291200" cy="189000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5"/>
            <p:cNvSpPr/>
            <p:nvPr/>
          </p:nvSpPr>
          <p:spPr>
            <a:xfrm>
              <a:off x="291960" y="2451600"/>
              <a:ext cx="49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干净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8"/>
          <p:cNvGrpSpPr/>
          <p:nvPr/>
        </p:nvGrpSpPr>
        <p:grpSpPr>
          <a:xfrm>
            <a:off x="7269120" y="2111400"/>
            <a:ext cx="4579920" cy="2482920"/>
            <a:chOff x="7269120" y="2111400"/>
            <a:chExt cx="4579920" cy="2482920"/>
          </a:xfrm>
        </p:grpSpPr>
        <p:pic>
          <p:nvPicPr>
            <p:cNvPr id="459" name="Picture 2" descr=""/>
            <p:cNvPicPr/>
            <p:nvPr/>
          </p:nvPicPr>
          <p:blipFill>
            <a:blip r:embed="rId1"/>
            <a:stretch/>
          </p:blipFill>
          <p:spPr>
            <a:xfrm>
              <a:off x="7269120" y="2111400"/>
              <a:ext cx="457992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Box 7"/>
            <p:cNvSpPr/>
            <p:nvPr/>
          </p:nvSpPr>
          <p:spPr>
            <a:xfrm>
              <a:off x="7269120" y="2465280"/>
              <a:ext cx="45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有趣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Picture 558" descr="그림1"/>
          <p:cNvPicPr/>
          <p:nvPr/>
        </p:nvPicPr>
        <p:blipFill>
          <a:blip r:embed="rId2"/>
          <a:stretch/>
        </p:blipFill>
        <p:spPr>
          <a:xfrm>
            <a:off x="4745160" y="4319640"/>
            <a:ext cx="1989000" cy="1989000"/>
          </a:xfrm>
          <a:prstGeom prst="rect">
            <a:avLst/>
          </a:prstGeom>
          <a:ln w="0">
            <a:noFill/>
          </a:ln>
        </p:spPr>
      </p:pic>
      <p:sp>
        <p:nvSpPr>
          <p:cNvPr id="462" name="Oval 563"/>
          <p:cNvSpPr/>
          <p:nvPr/>
        </p:nvSpPr>
        <p:spPr>
          <a:xfrm>
            <a:off x="4618080" y="4287960"/>
            <a:ext cx="2244600" cy="17794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560"/>
          <p:cNvSpPr txBox="1"/>
          <p:nvPr/>
        </p:nvSpPr>
        <p:spPr>
          <a:xfrm>
            <a:off x="5246640" y="4916520"/>
            <a:ext cx="104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比一比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3" descr=""/>
          <p:cNvPicPr/>
          <p:nvPr/>
        </p:nvPicPr>
        <p:blipFill>
          <a:blip r:embed="rId1"/>
          <a:stretch/>
        </p:blipFill>
        <p:spPr>
          <a:xfrm>
            <a:off x="2347920" y="3997440"/>
            <a:ext cx="7496280" cy="246852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16"/>
          <p:cNvGrpSpPr/>
          <p:nvPr/>
        </p:nvGrpSpPr>
        <p:grpSpPr>
          <a:xfrm>
            <a:off x="577800" y="544680"/>
            <a:ext cx="4425120" cy="1762920"/>
            <a:chOff x="577800" y="544680"/>
            <a:chExt cx="4425120" cy="1762920"/>
          </a:xfrm>
        </p:grpSpPr>
        <p:sp>
          <p:nvSpPr>
            <p:cNvPr id="466" name="AutoShape 12"/>
            <p:cNvSpPr/>
            <p:nvPr/>
          </p:nvSpPr>
          <p:spPr>
            <a:xfrm>
              <a:off x="577800" y="544680"/>
              <a:ext cx="4264200" cy="1762920"/>
            </a:xfrm>
            <a:prstGeom prst="wedgeRoundRectCallout">
              <a:avLst>
                <a:gd name="adj1" fmla="val 48638"/>
                <a:gd name="adj2" fmla="val 89782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5"/>
            <p:cNvSpPr/>
            <p:nvPr/>
          </p:nvSpPr>
          <p:spPr>
            <a:xfrm>
              <a:off x="577800" y="878400"/>
              <a:ext cx="442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先看看封面，找找书名和作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8"/>
          <p:cNvGrpSpPr/>
          <p:nvPr/>
        </p:nvGrpSpPr>
        <p:grpSpPr>
          <a:xfrm>
            <a:off x="7542360" y="630360"/>
            <a:ext cx="4008240" cy="2604960"/>
            <a:chOff x="7542360" y="630360"/>
            <a:chExt cx="4008240" cy="2604960"/>
          </a:xfrm>
        </p:grpSpPr>
        <p:pic>
          <p:nvPicPr>
            <p:cNvPr id="469" name="Picture 2" descr=""/>
            <p:cNvPicPr/>
            <p:nvPr/>
          </p:nvPicPr>
          <p:blipFill>
            <a:blip r:embed="rId2"/>
            <a:stretch/>
          </p:blipFill>
          <p:spPr>
            <a:xfrm>
              <a:off x="7542360" y="630360"/>
              <a:ext cx="4007880" cy="26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Box 7"/>
            <p:cNvSpPr/>
            <p:nvPr/>
          </p:nvSpPr>
          <p:spPr>
            <a:xfrm>
              <a:off x="7624800" y="909720"/>
              <a:ext cx="39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喜欢这本书吗？为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563"/>
          <p:cNvSpPr/>
          <p:nvPr/>
        </p:nvSpPr>
        <p:spPr>
          <a:xfrm>
            <a:off x="5005440" y="2089080"/>
            <a:ext cx="1708200" cy="17668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560"/>
          <p:cNvSpPr txBox="1"/>
          <p:nvPr/>
        </p:nvSpPr>
        <p:spPr>
          <a:xfrm>
            <a:off x="5337000" y="2711520"/>
            <a:ext cx="10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学分享</a:t>
            </a:r>
            <a:endParaRPr b="1" lang="en-US" sz="1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28677"/>
          <p:cNvSpPr/>
          <p:nvPr/>
        </p:nvSpPr>
        <p:spPr>
          <a:xfrm>
            <a:off x="1495440" y="1420920"/>
            <a:ext cx="9480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李萍萍   开  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8T07:26:00Z</dcterms:created>
  <dc:creator>Administrator</dc:creator>
  <dc:description/>
  <dc:language>en-US</dc:language>
  <cp:lastModifiedBy>_</cp:lastModifiedBy>
  <dcterms:modified xsi:type="dcterms:W3CDTF">2017-08-21T03:41:0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